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94F-AEBA-4E51-BFDC-E68F9CBE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9C4-297D-4CFE-96F0-7EC5EFF8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0F2-20DE-41C8-8852-FF688D50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2DC-7D3E-4DD5-90C6-48560FE6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BCAB-ED3F-4CDC-A9CD-37544A63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C41-3A72-4548-94A9-F2234792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1E1-CF75-48FB-9326-BA86A1B0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D21F-FBE3-4282-A89B-FCFADDE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2290-926F-4532-8C97-D5DF5708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2D7-F903-44A6-84B8-258046DA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751-DB24-4EB8-B5CE-DACBA5F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323-8743-410D-BAD0-7E64F84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7CD2-E512-4C69-984B-E31CB9C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D4F-2DC7-4676-BAC0-F8E2BE9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918-5C0C-4B27-A426-F04E637C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559E-331B-41CB-AE1C-12D20A52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A24-E8A3-46C2-82B4-89CCEE0C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EF8-A165-4841-A499-969E5DB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E6D-D371-435A-9FA8-E5144B94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B4A-4798-490A-9AEF-38A9433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78C-7F17-4208-A2E7-521B7B5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787-C673-4A13-9D9D-7D22846F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D23-59DB-4F59-821D-22AAB138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CAB-36F9-4B39-8785-74B82B5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0669-D2AD-4A06-8DDD-782C3CD377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A0FB-1E57-4CBF-AEAD-B16761E3FA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" Target="slide28.xml"/><Relationship Id="rId4" Type="http://schemas.openxmlformats.org/officeDocument/2006/relationships/hyperlink" Target="file:///CTE+Intro+Standards.doc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7%20All%20About%20Me%20-%20PWettstein%20-%20Very%20Good.ppt#CTE IT Introduction" TargetMode="External"/><Relationship Id="rId2" Type="http://schemas.openxmlformats.org/officeDocument/2006/relationships/hyperlink" Target="file:///p3%20All%20About%20Me%20-%20Mmaxfield%20-%20Very%20Good.ppt#CTE IT Introduction" TargetMode="External"/><Relationship Id="rId3" Type="http://schemas.openxmlformats.org/officeDocument/2006/relationships/hyperlink" Target="file:///All_About_Me_Slide_Show(2).pdf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chools.utah.gov/ate/tlc/Resources/resourcesbus.htm" TargetMode="External"/><Relationship Id="rId2" Type="http://schemas.openxmlformats.org/officeDocument/2006/relationships/hyperlink" Target="http://www.uen.org/curriculum/multimedia_resources.shtml" TargetMode="External"/><Relationship Id="rId3" Type="http://schemas.openxmlformats.org/officeDocument/2006/relationships/hyperlink" Target="http://www.uen.org/ate/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hyperlink" Target="http://cte-intro.wikispaces.com/08+Information+Technology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" Target="slide4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te-intro.wikispaces.com/FACS+IT+Technology+Changes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preview.cgi?LPid=4277" TargetMode="External"/><Relationship Id="rId2" Type="http://schemas.openxmlformats.org/officeDocument/2006/relationships/hyperlink" Target="http://www.uen.org/Lessonplan/preview?LPid=7739" TargetMode="External"/><Relationship Id="rId3" Type="http://schemas.openxmlformats.org/officeDocument/2006/relationships/hyperlink" Target="http://www.ebay.com/" TargetMode="External"/><Relationship Id="rId4" Type="http://schemas.openxmlformats.org/officeDocument/2006/relationships/hyperlink" Target="http://amazon.com/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ynoahs.com/locations.php" TargetMode="External"/><Relationship Id="rId2" Type="http://schemas.openxmlformats.org/officeDocument/2006/relationships/hyperlink" Target="http://www.uen.org/Lessonplan/preview?LPid=394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te-intro.wikispaces.com/08+Information+Technology" TargetMode="External"/><Relationship Id="rId2" Type="http://schemas.openxmlformats.org/officeDocument/2006/relationships/hyperlink" Target="http://cte-intro.wikispaces.com/FACS+IT+Technology+Changes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www.schools.utah.gov/ate/tlc/Resources/resourcesfacs.htm" TargetMode="External"/><Relationship Id="rId6" Type="http://schemas.openxmlformats.org/officeDocument/2006/relationships/hyperlink" Target="http://www.uen.org/curriculum/multimedia_resources.shtml" TargetMode="External"/><Relationship Id="rId7" Type="http://schemas.openxmlformats.org/officeDocument/2006/relationships/hyperlink" Target="http://www.uen.org/ate/" TargetMode="External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" Target="slide4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SourceCode_Assignment.pdf" TargetMode="External"/><Relationship Id="rId2" Type="http://schemas.openxmlformats.org/officeDocument/2006/relationships/hyperlink" Target="http://www.uen.org/Lessonplan/preview?LPid=487" TargetMode="External"/><Relationship Id="rId3" Type="http://schemas.openxmlformats.org/officeDocument/2006/relationships/hyperlink" Target="file:///binary_t.pdf" TargetMode="External"/><Relationship Id="rId4" Type="http://schemas.openxmlformats.org/officeDocument/2006/relationships/hyperlink" Target="file:///Binary+Dots.pdf" TargetMode="External"/><Relationship Id="rId5" Type="http://schemas.openxmlformats.org/officeDocument/2006/relationships/hyperlink" Target="file:///ASCII%20Uncoded.ppt" TargetMode="External"/><Relationship Id="rId6" Type="http://schemas.openxmlformats.org/officeDocument/2006/relationships/hyperlink" Target="http://www.neurophys.wisc.edu/comp/docs/ascii.html" TargetMode="External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ProgrammingLanguage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Computer+Systems.pp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Computer+Systems(2).pp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preview?LPid=486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ITCharts.pdf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hyperlink" Target="http://cte-intro.wikispaces.com/08+Information+Technology" TargetMode="External"/><Relationship Id="rId4" Type="http://schemas.openxmlformats.org/officeDocument/2006/relationships/hyperlink" Target="http://www.schools.utah.gov/ate/tlc/Resources/resourcesteched.htm" TargetMode="External"/><Relationship Id="rId5" Type="http://schemas.openxmlformats.org/officeDocument/2006/relationships/hyperlink" Target="http://www.uen.org/curriculum/multimedia_resources.shtml" TargetMode="External"/><Relationship Id="rId6" Type="http://schemas.openxmlformats.org/officeDocument/2006/relationships/hyperlink" Target="http://www.uen.org/ate/" TargetMode="Externa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en.org/Lessonplan/LPview.cgi?core=1207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" Target="slide1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" Target="slide1.xml"/><Relationship Id="rId6" Type="http://schemas.openxmlformats.org/officeDocument/2006/relationships/slide" Target=""/><Relationship Id="rId7" Type="http://schemas.openxmlformats.org/officeDocument/2006/relationships/hyperlink" Target="file:///RoomAssignmentMatrix.doc" TargetMode="External"/><Relationship Id="rId8" Type="http://schemas.openxmlformats.org/officeDocument/2006/relationships/hyperlink" Target="file:///Agenda--one%20page.doc" TargetMode="External"/><Relationship Id="rId9" Type="http://schemas.openxmlformats.org/officeDocument/2006/relationships/hyperlink" Target="file:///Agenda%20Page%20Two.doc" TargetMode="External"/><Relationship Id="rId10" Type="http://schemas.openxmlformats.org/officeDocument/2006/relationships/hyperlink" Target="file:///CTE+Intro+Standards.doc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hyperlink" Target="https://www.wikispaces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spaces.com/user/view/UMS_Bobcat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hyperlink" Target="http://www.uen.org/Lessonplan/preview?LPid=484" TargetMode="External"/><Relationship Id="rId3" Type="http://schemas.openxmlformats.org/officeDocument/2006/relationships/hyperlink" Target="file:///CTE+Intro+IT+Vocabulary+-+Business+v2(2).doc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witchboard.com/" TargetMode="External"/><Relationship Id="rId2" Type="http://schemas.openxmlformats.org/officeDocument/2006/relationships/hyperlink" Target="http://maps.google.com/" TargetMode="External"/><Relationship Id="rId3" Type="http://schemas.openxmlformats.org/officeDocument/2006/relationships/hyperlink" Target="http://pioneer.uen.org/k12/index.jsp" TargetMode="External"/><Relationship Id="rId4" Type="http://schemas.openxmlformats.org/officeDocument/2006/relationships/hyperlink" Target="http://surweb.org/" TargetMode="External"/><Relationship Id="rId5" Type="http://schemas.openxmlformats.org/officeDocument/2006/relationships/hyperlink" Target="http://www.utahrealestate.com/" TargetMode="External"/><Relationship Id="rId6" Type="http://schemas.openxmlformats.org/officeDocument/2006/relationships/hyperlink" Target="http://earth.google.com/" TargetMode="External"/><Relationship Id="rId7" Type="http://schemas.openxmlformats.org/officeDocument/2006/relationships/hyperlink" Target="http://www.ebay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mail.com/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TE 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Family &amp; Consumer Sc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Technology and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CTE Standards &amp;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657600" y="380880"/>
            <a:ext cx="205740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ti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elements, planning and development of a multimedia prese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ph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tions and interactiv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 About 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Power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ample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Sampl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bout Me 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Sampl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SOE Tech BUS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0492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Wiki Tech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04812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USINESS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4038480"/>
            <a:ext cx="4952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0592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ACS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on the family and consum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US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371600" cy="1344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S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ow technology has chang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&amp; Soc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 the use of information technology systems in all facets of socie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 (MP3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oking &amp;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Automated Sewing &amp; Embroid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pping: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E-Bay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Amaz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apboo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information technology in home, school and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cooling and heating from old thermostats to programmable thermostats to buildings like Noah’s that totally automated.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mynoahs.com/locations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Smart Home &amp; Appli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 Tech Lesson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ow Technology has chan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03360" y="27432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38862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USOE Tech FACS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776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ACS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657600" y="40381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 - CTE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 rot="21456600">
            <a:off x="3809880" y="761760"/>
            <a:ext cx="1317600" cy="14475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 (IT)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Days Devo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in today’s technology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Programm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and identify programming languages and their use in writing softwa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ourc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Programing Les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Binary Code_1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Binary DOTS Code_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S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SCII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how software is designed, developed and written as a computer program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OS) Operating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dows, Macintosh, Linux, Un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ication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d Processing, Database, Spreadsheet, Desktop Publishing, Multimedi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Expl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how cars, airplanes, spacecraft, robots, heating &amp; air conditioning, etc. are controlled by softw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ntrolled by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Computer Pa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parts of a computer, typical peripheral devices and interactions of different systems in a computer (CPU, memory, storage, input, outpu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omputer Parts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Numbering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at all computers operate on a digital or binary numbe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Numbering System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Eth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s with copyright, privacy, piracy, viruses, phishing, ID theft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issues of ethics, privacy, security and copyright law and how they apply to the use of information technolo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thics Less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related career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Pathway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the relationship and impact of information technology in the business ar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Wiki Tech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603360" y="27432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OE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3886200"/>
            <a:ext cx="854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USOE Tech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Multi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CTE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EN Re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EN Lesso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048120" y="1905120"/>
            <a:ext cx="5715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CHNOLOGY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Brainst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7600" y="4038480"/>
            <a:ext cx="4952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rk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43080" cy="4267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24852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Enjoy Your Summer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57150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990720" y="617220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579132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67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57150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990720" y="617220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 action="ppaction://hlinksldjump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5791320"/>
            <a:ext cx="76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Room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CTE June 16 Agenda Page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CTE June 16 Agenda Pag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CTE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iki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ki Ho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iki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TE Wik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Help:  Join cte-in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User Name:  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MS_Bobc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assword:  </a:t>
            </a:r>
            <a:r>
              <a:rPr b="1" lang="en-US" sz="2400" spc="-1" strike="noStrike">
                <a:solidFill>
                  <a:srgbClr val="a3c145"/>
                </a:solidFill>
                <a:latin typeface="Tahoma"/>
              </a:rPr>
              <a:t>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wikispaces.com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80880" y="44956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Just Look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cte-intro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 Termi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ppropriate business information technology terminology including appropriate use policies, networks, database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digital medi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server, modem, wireless, protocol, bandwidth, blog, podcast, wiki, mp3, animation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UEN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CTE Intro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line Datab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 online databases (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witchboard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maps.googl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Pioneer Online Librar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Surweb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Real Estat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Google Ear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online sto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etc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Cameras &amp; Cell 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 cell phone pi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end to E-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wnload to Computer D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ert Into Slide 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3280" y="61722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4:56:57Z</dcterms:created>
  <dc:creator>Lee Jeppson</dc:creator>
  <dc:description/>
  <dc:language>en-US</dc:language>
  <cp:lastModifiedBy>Murray Schools</cp:lastModifiedBy>
  <dcterms:modified xsi:type="dcterms:W3CDTF">2007-06-15T18:10:50Z</dcterms:modified>
  <cp:revision>46</cp:revision>
  <dc:subject/>
  <dc:title>BUS - TLC Introduction</dc:title>
</cp:coreProperties>
</file>